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E0F-725A-45FF-98FD-1C913F36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F13-F50B-45A3-B7FC-E5257AD7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E55-BA12-48A7-A9B6-9CAA07EB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A26-F902-4591-9C6C-E4A9ED1F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05A7-FE3E-4B58-9F5D-7EFAEFE9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32B4-717C-4D0F-9BB2-2ED3069F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B9B3-19A0-497B-89CF-905D9954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F0C8-2CAE-4DC3-89E6-2E728B9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F467-74B7-4BA1-A964-AFC65528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4A49-B15D-4347-BB5B-77B5665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ECD-4CB6-43F9-BF38-0E0BB8E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440-D06E-4828-8597-75BC71BE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4F83-5420-4872-9B72-DF9A1DA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E3A5-8DE4-420A-95B0-E89B78D0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4E3B-6F80-446B-B13B-4736E79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CA2-B089-4059-8876-905A4578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78DD-7A9C-414F-9867-8498C3BA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7C5C-579D-470D-9A18-5E86777E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994B-E3BD-493F-BB9F-D25E32DE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523B-015E-4523-9632-536C5EF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5D16-1962-4BA0-8D4F-C6FD1356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FCEE-592A-4ACC-B5FA-F7457CB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8F3-601A-426E-B898-BC74483B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744F-0102-4CA7-B71F-8E20F3FB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007B-2482-43B0-B7F5-E6A3051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1FFA7-BA80-43C6-9F98-D3806E4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CE3B-BF93-4161-B311-C3D1DF5C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0060-5703-4E8A-A89D-35031949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6B00-9CA2-49A6-BCF9-5EBE5165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890C-8C27-4BEF-8F06-62CA6353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B1CF-827C-46E1-BA8C-601AD19D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4DF0-671E-4154-9FF0-AD503AF3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2293-B018-4734-9C10-826F1AB0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062-0954-4254-B4DA-6976EB3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CAE5-9A30-4EA7-B33F-19A28117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C0D1-730A-4C6F-A0C6-6AE1F05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D1F9-9369-494B-AFDF-D3EE7CC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B41D-9496-4B78-AF1F-67D76CE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093D4-89CC-4ADB-A6BD-EF844C4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8586-50F1-4F15-904F-E885B856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8FE3A-8670-47D6-92A3-67CF3ED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883A6-B736-44C0-97EB-7617C9AD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AC95-BF02-4F7D-B287-8727E9A4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516-292C-41FF-891C-FE5E3FA9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585-8FEA-4463-980F-DD0533E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737-7C36-4169-89D1-1FDA642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77B-297E-4AB4-88D0-F21CD5CB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8A9-4FCC-4745-BDF1-872FCAF4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6B8B-C500-4970-9F4D-17080E733E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12E-A026-4D81-9AE2-B987B1DCAFC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E0F-257C-49DA-9126-B562C3463C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ABA-D380-4A27-BDC9-665627B93A1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2045520" y="654120"/>
            <a:ext cx="47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4000" y="1484280"/>
            <a:ext cx="838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У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снове вештине комун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547640" y="2490840"/>
            <a:ext cx="6120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</a:rPr>
              <a:t>4. наставна јединица (четвр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ицај карактеристика личности и социјалних специфичности на комуникац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ионални аспекти вештине комуникације у здрав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737680" y="5950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ц. др Бранимир Радман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3520" y="3352680"/>
            <a:ext cx="7772400" cy="293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висок степен толеранц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стрпље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аутентичну жељу да разуме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мира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када конкретну сугестију у решавању пробле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223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54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узимају затворенији ста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збегавају контакт оч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дефинишу јасно своје жеље и циљев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кудно говоре о својим тег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476280" y="1133640"/>
            <a:ext cx="8064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210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16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професионалне дистанц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јасних и тачних одговор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 предузимати “акцију” разуверава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поштовање и разумевање ригид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44440" y="755640"/>
            <a:ext cx="8491680" cy="1427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оставити утисак смирене и стрпљиве особе која аутентично охрабру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простора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авање одговарајућих објашњења везано за страх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4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ебним потре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штеће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овор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блем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ходом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арактериш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бјекти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оживља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баче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круж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ећ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 вредности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ид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амеж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ка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поверљи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умњичав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но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стул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собам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груп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снив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ињениц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олест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редан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овек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е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луча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реди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јој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живим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Визуел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перпециј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елесног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едостат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мисл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крет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аж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н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тра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ж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овоцира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ак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еак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еш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муникациј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говорник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R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важавањ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ишље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веукуп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когнитив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пособно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талена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фонд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нањ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дређених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блас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учини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људ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из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ов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опулациј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буд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равноправн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чланов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друштвен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једниц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ће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пружити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могућност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за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њихов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аутентичн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ffc000"/>
                </a:solidFill>
                <a:latin typeface="Calibri"/>
              </a:rPr>
              <a:t>самореализацију</a:t>
            </a:r>
            <a:r>
              <a:rPr b="0" lang="sr-Latn-CS" sz="22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0720" y="835200"/>
            <a:ext cx="824256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ffc000"/>
                </a:solidFill>
                <a:latin typeface="Constantia"/>
              </a:rPr>
              <a:t>Професионални аспект вештине комуникације здравствених радника подразумев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поседовање медицинских знањ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чување медицинске тајн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трпљив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марљивост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хума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та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одлу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енергич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брзин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c000"/>
                </a:solidFill>
                <a:latin typeface="Constantia"/>
              </a:rPr>
              <a:t>-спретнос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71360" y="835200"/>
            <a:ext cx="8064720" cy="907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057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нксиозност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деп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 ре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c000"/>
                </a:solidFill>
                <a:latin typeface="Constantia"/>
              </a:rPr>
              <a:t>- </a:t>
            </a:r>
            <a:r>
              <a:rPr b="0" i="1" lang="sr-RS" sz="2400" spc="-1" strike="noStrike">
                <a:solidFill>
                  <a:srgbClr val="ffc000"/>
                </a:solidFill>
                <a:latin typeface="Constantia"/>
              </a:rPr>
              <a:t>агрес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71360" y="907920"/>
            <a:ext cx="8064720" cy="14274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варање амбијента поверења и сигур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сказивање емпатије и хуманистичког односа према пацијент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важавање личности пацијент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44440" y="639720"/>
            <a:ext cx="8240760" cy="1182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неупадљивост у држању, понашању и спољашњем изглед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римерено одевањ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ред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спостављање контакта очима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утентичну заинтересованост за разговор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тав мирног, стрпљивог и заинтересованог слушао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осмех и љубаз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нашање које шаље поруку да пацијент и његова породица “нису сами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29920" y="1066680"/>
            <a:ext cx="8232840" cy="4724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Constantia"/>
              </a:rPr>
              <a:t>Светска здравствена организација дефинише тимски рад ка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1" lang="en-US" sz="2400" spc="-1" strike="noStrike">
                <a:solidFill>
                  <a:srgbClr val="ffc000"/>
                </a:solidFill>
                <a:latin typeface="Constantia"/>
              </a:rPr>
              <a:t>рад више стручњака на постизању заједничког циља. Тај рад не сме бити фрагментиран и неповезан, већ добро координиран од стране руководиоца тима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.”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7617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29920" y="1980720"/>
            <a:ext cx="823284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екипни тимски хијерархијски рад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(нпр.рад хирушког тим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- процесни тимски рад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(нпр. интердисциплинарни тимски рад са децом ометеном у менталном развоју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c000"/>
                </a:solidFill>
                <a:uFillTx/>
                <a:latin typeface="Constantia"/>
              </a:rPr>
              <a:t>Интердисциплинарни тим 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чине особе које свакодневно раде заједно, које у решавању постављених циљева користе знање из своје области и своје надлежности, али кроз активну сарадњу са осталим члановима тим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106056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0280" y="22093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штовање унапред дефинисаног времена тимских састана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авање активног доприноса у изналажењу решењ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извршавање својих обавеза у предвиђеном рок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очекиваног квантума знања из своје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искуства у тимским активнос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седовање смисла за конструктивну тимску комуникациј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44440" y="835200"/>
            <a:ext cx="8070840" cy="9871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квалитетну комуникацију између чланов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међусобно уважавање лично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премност за отворен, конструктиван и искрен дијало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упућивање јасних, недвосмислених порука другим члановима ти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44440" y="907920"/>
            <a:ext cx="807084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02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сујету појединц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требу за привилегијом у груп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замену дефинисаног циља тежњом ка личном успеху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анимозитет према колег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ривалите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било који облик опструкције тимског процес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 повишен то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064360" cy="1670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028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јас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умљи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едвосмисле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44440" y="987480"/>
            <a:ext cx="8070840" cy="1420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флексибил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добронамерн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толеранц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исказивање емпатиј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налажење заједничких елемената (нпр.интересовања) са пацијентом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639720" y="530280"/>
            <a:ext cx="8663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чк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дра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об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1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лиш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сихијатријск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бољењ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2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ј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пшт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т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ећањ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адовољств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опс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са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ретеж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е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време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3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ункциониш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вој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лиз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пун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нтелекту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физичк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моционал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4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бор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рађу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олин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ар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даптивн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апацитет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)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т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днос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одитељ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лега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ир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руштве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кружење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м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обр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ачин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Ег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шт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знач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змеђу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сталог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пособн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д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активно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очекивани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успехом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разреши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конфликтн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ситуације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(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Ј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0" lang="sr-CS" sz="2600" spc="-1" strike="noStrike">
                <a:solidFill>
                  <a:srgbClr val="ffc000"/>
                </a:solidFill>
                <a:latin typeface="Calibri"/>
              </a:rPr>
              <a:t>Марић</a:t>
            </a:r>
            <a:r>
              <a:rPr b="0" lang="sr-Latn-CS" sz="2600" spc="-1" strike="noStrike">
                <a:solidFill>
                  <a:srgbClr val="ffc000"/>
                </a:solidFill>
                <a:latin typeface="Calibri"/>
              </a:rPr>
              <a:t>,2001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0280" y="1294920"/>
            <a:ext cx="8308800" cy="434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Независно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д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тип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болесник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сихопатолог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н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споља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екар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мор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основ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инцип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,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доб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комуникациј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,.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што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лич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ацијент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рвом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ред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дразумев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твар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тмосфер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верења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сигур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 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емпатију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зражавањ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аутентичне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заинтересованост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ffc000"/>
                </a:solidFill>
                <a:latin typeface="Calibri"/>
              </a:rPr>
              <a:t>посвећеност</a:t>
            </a:r>
            <a:r>
              <a:rPr b="0" lang="sr-Latn-CS" sz="28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Title 1" descr=""/>
          <p:cNvPicPr/>
          <p:nvPr/>
        </p:nvPicPr>
        <p:blipFill>
          <a:blip r:embed="rId1"/>
          <a:stretch/>
        </p:blipFill>
        <p:spPr>
          <a:xfrm>
            <a:off x="244440" y="530280"/>
            <a:ext cx="8923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1" descr=""/>
          <p:cNvPicPr/>
          <p:nvPr/>
        </p:nvPicPr>
        <p:blipFill>
          <a:blip r:embed="rId1"/>
          <a:stretch/>
        </p:blipFill>
        <p:spPr>
          <a:xfrm>
            <a:off x="244440" y="450720"/>
            <a:ext cx="8070840" cy="1427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еуфориј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раздражљивост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убрзан мисаони то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лако ступање у комуникацију са познатим и непознатим особам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често сумануте идеје о сопственој величин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-захтеван став према окружењу и с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Здравствени радник у комуникацији са </a:t>
            </a:r>
            <a:r>
              <a:rPr b="0" i="1" lang="en-US" sz="2200" spc="-1" strike="noStrike">
                <a:solidFill>
                  <a:srgbClr val="ff0000"/>
                </a:solidFill>
                <a:latin typeface="Constantia"/>
              </a:rPr>
              <a:t>маничним пацијентом</a:t>
            </a:r>
            <a:r>
              <a:rPr b="0" lang="en-US" sz="2200" spc="-1" strike="noStrike">
                <a:solidFill>
                  <a:srgbClr val="ffc000"/>
                </a:solidFill>
                <a:latin typeface="Constantia"/>
              </a:rPr>
              <a:t> ”позива га” да се смири, нудећи му својим ставом и понашањем модел стрпљиве и смирене особ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0T18:29:15Z</dcterms:created>
  <dc:creator>Korisnik</dc:creator>
  <dc:description/>
  <dc:language>en-US</dc:language>
  <cp:lastModifiedBy>Milanče Sin</cp:lastModifiedBy>
  <dcterms:modified xsi:type="dcterms:W3CDTF">2023-02-04T19:46:59Z</dcterms:modified>
  <cp:revision>31</cp:revision>
  <dc:subject/>
  <dc:title>Slide 1</dc:title>
</cp:coreProperties>
</file>